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C34B-B63C-40F6-BCED-66DB3DBF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B06-07E9-48C2-87A8-2DF09F85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5E4-713D-4FE6-9B98-C784BB20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B7D-B04B-4F81-BF6B-A3176811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E72-3860-4737-A191-8983E5AE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B3B-3773-402B-8333-2F63DEBC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6878-1012-4CCC-95B4-B6F2354A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135-CA2A-464B-BF3E-F4D914DB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9DD-EB86-4305-BC26-DE353794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C3F-5CF5-434E-887E-1CF78091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CC8-4E47-4EE7-B96F-692FE614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DD9B-11FA-4F61-8D32-32745CE6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2A77-887A-4047-9129-790BE6314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ower-point was used in a high school lesson, preparing students for reading a chapter on early  African civilizations.  The before reading activities including: 1) vocabulary instruction, 2) introduction of background knowledge, and 3) preview of the chap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ta L. Archer, P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Begin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eop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g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y move from one place to to settle in an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nima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grate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imals move from one place to another place at a specific season usually to get food or to br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e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Learning - Why do you think this group is migrating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2960" y="1981080"/>
            <a:ext cx="731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you think this group is migr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by say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think this group is migrating for the following reason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86080" y="19810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g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0 years ago the Bantu began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gr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other areas of Africa.  Because of th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gratio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ntu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gr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ared their language with other people in Afr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ne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as this age referred to as the Stone Ag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ne Age - too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86080" y="19810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ne Age - Too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93800" y="1981080"/>
            <a:ext cx="5754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as this age referred to as the 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by say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ge was referred by the Stone Age because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5240" y="1981080"/>
            <a:ext cx="413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t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ttl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Learning:  What can you conclude about the houses in early African settleme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le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41320" y="1981080"/>
            <a:ext cx="5659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le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le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63680" y="1981080"/>
            <a:ext cx="641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le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76560" y="1981080"/>
            <a:ext cx="4790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you conclude about the houses in early African sett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by say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se illustrations of houses in early African settlements, I could conclude that 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mes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imal is one that is not w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s kept either on a farm or as a p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mest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wild animal, you tame them for some human 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ate - cat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09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ate - cat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39800" y="1981080"/>
            <a:ext cx="5862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ate - eleph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ha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68360" y="1981080"/>
            <a:ext cx="6405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ate - do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65360" y="1981080"/>
            <a:ext cx="581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vil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human society that has cities, a central government, and usually has writing, art, and architec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ization - ci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1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ization - ar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87560" y="1981080"/>
            <a:ext cx="336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Wri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Wri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28840" y="1981080"/>
            <a:ext cx="2684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 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hea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 Begin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ing surviv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ting and Gath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ing and He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 Begin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ing surviv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ting and Gath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ing and He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vilizations on the N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n Begin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surviv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ting and G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ming and He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vilizations on the 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antu Mig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igr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tus Spread Their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ic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ha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79800" y="1981080"/>
            <a:ext cx="4784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nic group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thnic group is a group of people who share the same ancestors, culture, language, religion, and custo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 has hundreds of ethnic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Learning: What are some the differences between these ethnic group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nic grou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5600" y="1981080"/>
            <a:ext cx="575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nic grou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92160" y="1981080"/>
            <a:ext cx="5357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nic grou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85920" y="1981080"/>
            <a:ext cx="4770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the differences between these ethnic group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gin by say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differences between these ethnic groups inclu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2:56:42Z</dcterms:created>
  <dc:creator>Archer Anita</dc:creator>
  <dc:description/>
  <dc:language>en-US</dc:language>
  <cp:lastModifiedBy>Archer Anita</cp:lastModifiedBy>
  <dcterms:modified xsi:type="dcterms:W3CDTF">2012-04-22T17:46:18Z</dcterms:modified>
  <cp:revision>6</cp:revision>
  <dc:subject/>
  <dc:title>Africa </dc:title>
</cp:coreProperties>
</file>